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6D656-6596-46B1-8867-A63A0ED1C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9BE36-1B46-4CD2-B877-EE553CC5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82D35-3DC5-4746-945F-24478E4FA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E58D9-FD77-44A8-8A42-5500F6FF9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D5543-0F40-4B1C-B435-25D70EE60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8BEA0-D044-461B-93C5-0B3CF4092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4AC62-4CB5-4BD8-BA73-EB3F8B7DF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EAA91-C8FD-4D57-AC49-709D98964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17B80-F518-4A5D-A3C6-AB467D573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A4AB8-6B78-434B-B90E-67EEDE4DB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AD86-2B55-40AE-9BF7-A9645D72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E787A-D925-430E-9568-9415222FE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BFB5-B8D6-44BE-9E64-6110EEA4C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1219320" y="609480"/>
            <a:ext cx="732456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panish Conquistadors and the natives</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1981080" y="3200400"/>
            <a:ext cx="6100920" cy="1409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Y: Evan Meehan and Rober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8.88889E-006 -3.3526E-006 C -0.00694 0.0474 -0.00486 0.17411 0.02848 0.21966 C 0.04428 0.21133 0.03386 0.21942 0.04757 0.18821 C 0.07466 0.12625 0.09323 0.07653 0.10469 0.00625 C 0.1007 -0.01549 0.10435 -0.01873 0.07935 -0.01271 C -0.01753 0.00948 -0.02465 0.01411 -0.10798 0.06521 C -0.14114 0.08578 -0.17361 0.10775 -0.20642 0.12902 C -0.20954 0.1311 -0.21597 0.13526 -0.21597 0.13526 C -0.21892 0.15515 -0.20989 0.15075 -0.20312 0.16902 C -0.19288 0.19677 -0.18802 0.22567 -0.1651 0.24093 C -0.15815 0.24532 -0.15034 0.24648 -0.14288 0.24948 C -0.12812 0.24463 -0.1118 0.2444 -0.09843 0.23469 C -0.08975 0.22821 -0.07222 0.18775 -0.06666 0.17549 C -0.06614 0.16971 -0.0644 0.16416 -0.0651 0.15862 C -0.0743 0.08856 -0.12864 0.10336 -0.16979 0.10151 C -0.23732 0.10983 -0.30642 0.12463 -0.36354 0.17758 C -0.36927 0.19723 -0.36458 0.2081 -0.35868 0.22613 C -0.35572 0.23515 -0.35486 0.24532 -0.35086 0.25364 C -0.33072 0.29388 -0.31006 0.33573 -0.28263 0.36786 C -0.2776 0.37341 -0.271 0.37642 -0.2651 0.38058 C -0.25763 0.37642 -0.24895 0.3748 -0.24288 0.36786 C -0.23836 0.36278 -0.23697 0.35399 -0.23489 0.34636 C -0.22986 0.32879 -0.21284 0.24393 -0.21267 0.24301 C -0.20954 0.20232 -0.19062 0.11723 -0.22534 0.09295 C -0.28211 0.09989 -0.29548 0.117 -0.34444 0.15862 C -0.35868 0.18613 -0.37256 0.21388 -0.38732 0.24093 C -0.41996 0.30035 -0.40555 0.2622 -0.41909 0.3022 C -0.39756 0.37526 -0.29305 0.5244 -0.28263 0.54127 C -0.23732 0.61457 -0.25815 0.59168 -0.21753 0.62775 C -0.21111 0.62428 -0.20347 0.62359 -0.19843 0.61734 C -0.1552 0.56463 -0.1434 0.42821 -0.13177 0.35723 C -0.13055 0.32023 -0.1151 0.22636 -0.14756 0.19445 C -0.15538 0.18682 -0.17847 0.18682 -0.18576 0.18613 C -0.24357 0.19492 -0.22204 0.1859 -0.28576 0.22798 C -0.31597 0.24833 -0.35208 0.26937 -0.37308 0.30659 C -0.37829 0.33434 -0.35364 0.39214 -0.34131 0.40786 C -0.27795 0.49041 -0.22847 0.54867 -0.14756 0.58752 C -0.12829 0.597 -0.10746 0.59769 -0.08732 0.60255 C -0.07152 0.59977 -0.05503 0.60047 -0.03975 0.59399 C -0.01683 0.58382 0.00504 0.54914 0.02067 0.52856 C 0.06094 0.41758 0.07952 0.31561 0.09688 0.19445 C 0.09896 0.09942 0.1224 -0.02335 0.05869 -0.09294 C 0.0441 -0.1089 0.02622 -0.12 0.00799 -0.12693 C -0.0052 -0.13225 -0.01961 -0.12832 -0.03333 -0.12901 C -0.05555 -0.12046 -0.07916 -0.11699 -0.09999 -0.10358 C -0.1802 -0.05294 -0.21302 0.02844 -0.23645 0.13526 C -0.24183 0.22012 -0.23385 0.32208 -0.19045 0.39075 C -0.15329 0.44971 -0.10017 0.47885 -0.04756 0.50312 C -0.02534 0.50012 -0.00243 0.50289 0.0191 0.49457 C 0.02987 0.49041 0.03924 0.47908 0.04601 0.46729 C 0.10921 0.35445 0.12692 0.30567 0.16511 0.18382 C 0.17605 0.14914 0.18507 0.11307 0.19514 0.07792 C 0.19983 0.01295 0.21181 -0.01017 0.17466 -0.05503 C 0.16459 -0.06728 0.15539 -0.08185 0.14289 -0.08878 C 0.1224 -0.09988 0.09948 -0.10173 0.07778 -0.10774 C 0.05087 -0.10566 0.02327 -0.10936 -0.00312 -0.10173 C -0.08576 -0.07792 -0.17899 -0.02381 -0.23645 0.06127 C -0.24288 0.14104 -0.18871 0.19168 -0.15243 0.2474 C -0.14826 0.25388 -0.11597 0.2911 -0.10642 0.29596 C -0.09843 0.29989 -0.0894 0.2985 -0.0809 0.30012 C -0.03038 0.2911 -0.05086 0.30336 -0.00486 0.24532 C 0.06442 0.15769 0.09601 0.07908 0.1349 -0.03607 C 0.13698 -0.07422 0.14341 -0.1119 0.14132 -0.15005 C 0.13768 -0.21734 0.11146 -0.3089 0.06025 -0.33826 C 0.04289 -0.34821 0.02327 -0.34821 0.00469 -0.35306 C -0.05034 -0.34821 -0.10624 -0.35144 -0.16041 -0.33826 C -0.27204 -0.31098 -0.36701 -0.19815 -0.43489 -0.08254 C -0.46371 0.02197 -0.421 0.15422 -0.38263 0.24301 C -0.32951 0.36555 -0.33072 0.40648 -0.246 0.45018 C -0.23697 0.44786 -0.22673 0.45064 -0.21909 0.4437 C -0.21111 0.437 -0.20798 0.42336 -0.20312 0.41203 C -0.18454 0.36948 -0.18472 0.3637 -0.17152 0.31677 C -0.17083 0.29781 -0.16753 0.23284 -0.17152 0.21341 C -0.18819 0.13018 -0.25833 0.10983 -0.31111 0.08856 C -0.37239 0.09711 -0.4309 0.08185 -0.47777 0.13942 C -0.49305 0.15815 -0.50329 0.18289 -0.51597 0.20486 C -0.52118 0.22451 -0.52829 0.24393 -0.53177 0.26405 C -0.54808 0.36047 -0.51701 0.55145 -0.48263 0.61734 C -0.44652 0.68671 -0.4467 0.70544 -0.39374 0.74405 C -0.35572 0.77156 -0.33819 0.76625 -0.29531 0.76948 C -0.21579 0.75538 -0.23246 0.76625 -0.146 0.7059 C 0.01164 0.59677 0.05209 0.59122 0.14914 0.43954 C 0.17014 0.40717 0.18612 0.36902 0.20469 0.33388 C 0.20782 0.28833 0.21841 0.24208 0.21424 0.19653 C 0.20296 0.07399 0.16806 0.01411 0.10955 -0.07422 C 0.08073 -0.11792 0.04862 -0.15329 0.00469 -0.15861 C 0.00157 -0.15792 -0.00243 -0.15977 -0.00486 -0.15653 C -0.01909 -0.13896 -0.02812 -0.08208 -0.03333 -0.05919 C -0.04183 0.05989 -0.04548 0.0689 -0.02534 0.23653 C -0.02187 0.2659 0.00626 0.31307 0.02848 0.32532 C 0.06077 0.34382 0.08126 0.33873 0.11737 0.34035 C 0.17535 0.33203 0.27657 0.34035 0.3349 0.28324 C 0.3474 0.27099 0.354 0.25064 0.36355 0.23469 C 0.379 0.15838 0.37587 0.07815 0.32223 0.02729 C 0.29254 -0.000920000000000001 0.25799 -0.00855 0.22379 -0.02104 C 0.16025 -0.01549 0.09584 -0.01942 0.03334 -0.00416 C -0.03159 0.01156 -0.11111 0.0733 -0.16666 0.12255 C -0.17118 0.13827 -0.17048 0.14012 -0.16041 0.14983 C -0.13177 0.22636 -0.0967 0.27954 -0.05555 0.3489 C -0.04218 0.37156 -0.04843 0.36486 -0.03819 0.37388 C 0.00886 0.32925 0.04844 0.26914 0.0698 0.19653 C 0.06615 0.19029 0.06407 0.18127 0.05869 0.17758 C 0.05296 0.17364 0.04601 0.17619 0.03959 0.17549 C 0.02744 0.17364 0.01528 0.1711 0.00313 0.16902 C -0.03229 0.17179 -0.06788 0.17156 -0.10312 0.17758 C -0.10972 0.1785 -0.10937 0.20139 -0.10486 0.21341 C -0.09947 0.22775 -0.08072 0.23954 -0.07152 0.24532 C -0.02621 0.27376 -0.03611 0.26474 0.02535 0.27908 C 0.03178 0.27353 0.03855 0.26844 0.04445 0.2622 C 0.05556 0.24971 0.06424 0.23284 0.07622 0.22197 C 0.09671 0.20324 0.12014 0.19052 0.14132 0.17341 C 0.18317 0.13966 0.22084 0.10081 0.25556 0.05503 C 0.25712 0.04856 0.2606 0.04255 0.26025 0.03584 C 0.25921 0.00925 0.23803 0.00856 0.22379 0.00416 C 0.19046 0.00971 0.15573 0.0074 0.12379 0.02081 C 0.09376 0.03376 0.06823 0.06035 0.04132 0.08232 C -0.00538 0.12093 -0.0493 0.16185 -0.08263 0.21966 C -0.09479 0.30174 -0.0835 0.38613 -0.07308 0.46729 C -0.06718 0.51237 -0.06545 0.56601 -0.03975 0.60047 C -0.00694 0.58706 0.00452 0.55723 0.02067 0.52185 C 0.02605 0.49734 0.03612 0.4696 0.02848 0.4437 C 0.02101 0.4185 0.01563 0.41919 -0.00486 0.40347 C -0.05781 0.3637 -0.11319 0.35006 -0.17308 0.34035 C -0.20451 0.34197 -0.2059 0.33827 -0.22708 0.35492 C -0.23003 0.35746 -0.23368 0.35838 -0.23645 0.36139 C -0.24236 0.36763 -0.25243 0.38243 -0.25243 0.38243 C -0.2618 0.40763 -0.26666 0.46474 -0.26666 0.46474 C -0.27187 0.54497 -0.30138 0.71792 -0.2302 0.73133 C -0.19548 0.72555 -0.17361 0.68902 -0.15086 0.65526 C -0.0552 0.5133 0.04098 0.37549 0.10001 0.20093 C 0.10747 0.14844 0.11389 0.13295 0.09358 0.07168 C 0.08507 0.04625 0.06876 0.02613 0.05556 0.00416 C 0.01997 -0.05526 -0.00972 -0.10011 -0.06822 -0.10566 C -0.08749 -0.10335 -0.08767 -0.10705 -0.09045 -0.08462 C -0.09808 0.08 -0.12308 0.24278 -0.13177 0.40786 C -0.13124 0.42012 -0.13298 0.4326 -0.1302 0.4437 C -0.12951 0.44694 -0.12552 0.44185 -0.12378 0.43954 C -0.11805 0.4326 -0.11267 0.42497 -0.10798 0.41619 C -0.09583 0.39422 -0.08906 0.37549 -0.0842 0.3489 C -0.09895 0.28 -0.08558 0.32671 -0.11423 0.2622 C -0.12812 0.23122 -0.13298 0.20555 -0.15555 0.18382 C -0.16857 0.17133 -0.19079 0.1644 -0.20642 0.15862 C -0.25451 0.16278 -0.23055 0.14983 -0.22708 0.25781 C -0.22517 0.31977 -0.20642 0.38937 -0.1651 0.42289 C -0.12343 0.40416 -0.15624 0.42497 -0.12065 0.37827 C -0.0651 0.30567 -0.0092 0.2481 0.0349 0.16278 C 0.03438 0.15075 0.03629 0.13827 0.03334 0.12694 C 0.01997 0.07538 -0.01163 0.00532 -0.046 -0.02335 C -0.05798 -0.03375 -0.08159 -0.04092 -0.09687 -0.04647 C -0.10381 -0.04508 -0.11163 -0.0474 -0.11753 -0.04254 C -0.12187 -0.03861 -0.12829 -0.00069 -0.12864 0.00208 C -0.13454 0.04671 -0.13524 0.06636 -0.13819 0.10983 C -0.13663 0.18798 -0.15538 0.19723 -0.11753 0.2111 C -0.09635 0.20925 -0.07499 0.20948 -0.05399 0.20486 C -0.01822 0.19746 0.00226 0.15492 0.02067 0.11838 C 0.03351 0.05781 0.03004 -0.02127 -0.00486 -0.06774 C -0.01111 -0.06497 -0.01822 -0.06404 -0.02378 -0.05919 C -0.02621 -0.05711 -0.02638 -0.05225 -0.02708 -0.04855 C -0.02899 -0.03953 -0.0302 -0.03029 -0.03177 -0.02104 C -0.03055 0.00116 -0.03315 0.07006 -0.01753 0.09942 C -0.01354 0.10682 -0.00763 0.10613 -0.00156 0.10775 C 0.03282 0.10336 0.03369 0.10289 0.06181 0.08648 C 0.07136 0.08116 0.10712 0.06659 0.12067 0.05503 C 0.12275 0.04393 0.12431 0.03862 0.12067 0.02521 C 0.12014 0.02312 0.11737 0.02428 0.1158 0.02312 C 0.10608 0.0185 0.09757 0.01642 0.08733 0.01457 C 0.07848 0.01596 0.05678 0.01827 0.04445 0.02081 C 0.03369 0.02336 0.02553 0.02775 0.01424 0.02937 C 0.00469 0.0326 -0.00486 0.03445 -0.01423 0.03815 C -0.05433 0.03515 -0.09652 0.02312 -0.13177 -0.00416 C -0.13229 -0.00624 -0.13506 -0.0104 -0.13333 -0.01063 C -0.12899 -0.01179 -0.12482 -0.00786 -0.12065 -0.00624 C -0.11041 -0.003 -0.09947 -0.00508 -0.08888 -0.00416 C -0.08003 -0.00185 -0.07135 0.00278 -0.06354 0.00856 C -0.06128 0.00995 -0.05972 0.01411 -0.05711 0.01457 C -0.04461 0.01688 -0.03177 0.01619 -0.01909 0.01665 C -0.01874 0.01804 -0.01631 0.03376 -0.01423 0.01665 C -0.01371 0.01249 -0.01736 0.00879 -0.01909 0.00625 C -0.02083 -0.00115 -0.01944 0.00139 -0.02222 -0.00208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a:t>
            </a:r>
            <a:endParaRPr b="0" lang="en-US" sz="4400" spc="-1" strike="noStrike">
              <a:solidFill>
                <a:srgbClr val="000000"/>
              </a:solidFill>
              <a:latin typeface="Arial"/>
            </a:endParaRPr>
          </a:p>
        </p:txBody>
      </p:sp>
      <p:sp>
        <p:nvSpPr>
          <p:cNvPr id="46" name="PlaceHolder 2"/>
          <p:cNvSpPr>
            <a:spLocks noGrp="1"/>
          </p:cNvSpPr>
          <p:nvPr>
            <p:ph/>
          </p:nvPr>
        </p:nvSpPr>
        <p:spPr>
          <a:xfrm>
            <a:off x="0" y="0"/>
            <a:ext cx="4038480" cy="45259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d in Central Mexico – Valley of Mexico</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ital is Tenochtitlan built in the middle of a lake</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rced other tribes to give them mone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brought down by smallpox</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ztecs believed in Quetzalcoatl.</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kept Montezuma hostage</a:t>
            </a:r>
            <a:r>
              <a:rPr b="0" lang="en-US" sz="2800" spc="-1" strike="noStrike">
                <a:solidFill>
                  <a:srgbClr val="000000"/>
                </a:solidFill>
                <a:latin typeface="Arial"/>
              </a:rPr>
              <a: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2"/>
          <a:stretch/>
        </p:blipFill>
        <p:spPr>
          <a:xfrm>
            <a:off x="4800600" y="1828800"/>
            <a:ext cx="3886200" cy="2662200"/>
          </a:xfrm>
          <a:prstGeom prst="rect">
            <a:avLst/>
          </a:prstGeom>
          <a:ln w="0">
            <a:noFill/>
          </a:ln>
        </p:spPr>
      </p:pic>
      <p:sp>
        <p:nvSpPr>
          <p:cNvPr id="48" name=""/>
          <p:cNvSpPr/>
          <p:nvPr/>
        </p:nvSpPr>
        <p:spPr>
          <a:xfrm>
            <a:off x="6250680" y="4647600"/>
            <a:ext cx="10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a:t>
            </a:r>
            <a:endParaRPr b="0" lang="en-US" sz="4400" spc="-1" strike="noStrike">
              <a:solidFill>
                <a:srgbClr val="000000"/>
              </a:solidFill>
              <a:latin typeface="Arial"/>
            </a:endParaRPr>
          </a:p>
        </p:txBody>
      </p:sp>
      <p:sp>
        <p:nvSpPr>
          <p:cNvPr id="50" name="PlaceHolder 2"/>
          <p:cNvSpPr>
            <a:spLocks noGrp="1"/>
          </p:cNvSpPr>
          <p:nvPr>
            <p:ph/>
          </p:nvPr>
        </p:nvSpPr>
        <p:spPr>
          <a:xfrm>
            <a:off x="0" y="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coast Yucatan peninsul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re slaves could sometimes gain freed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did not contain a lot of g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much harder for the conquistadors to overthr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in many gods</a:t>
            </a:r>
            <a:endParaRPr b="0" lang="en-US" sz="2400" spc="-1" strike="noStrike">
              <a:solidFill>
                <a:srgbClr val="000000"/>
              </a:solidFill>
              <a:latin typeface="Arial"/>
            </a:endParaRPr>
          </a:p>
        </p:txBody>
      </p:sp>
      <p:pic>
        <p:nvPicPr>
          <p:cNvPr id="51" name="" descr=""/>
          <p:cNvPicPr/>
          <p:nvPr/>
        </p:nvPicPr>
        <p:blipFill>
          <a:blip r:embed="rId2"/>
          <a:stretch/>
        </p:blipFill>
        <p:spPr>
          <a:xfrm>
            <a:off x="4343400" y="1676520"/>
            <a:ext cx="4800600" cy="3276360"/>
          </a:xfrm>
          <a:prstGeom prst="rect">
            <a:avLst/>
          </a:prstGeom>
          <a:ln w="0">
            <a:noFill/>
          </a:ln>
        </p:spPr>
      </p:pic>
      <p:sp>
        <p:nvSpPr>
          <p:cNvPr id="52" name=""/>
          <p:cNvSpPr/>
          <p:nvPr/>
        </p:nvSpPr>
        <p:spPr>
          <a:xfrm>
            <a:off x="5412960" y="5028480"/>
            <a:ext cx="2565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ace.utexas. 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a:t>
            </a:r>
            <a:endParaRPr b="0" lang="en-US" sz="4400" spc="-1" strike="noStrike">
              <a:solidFill>
                <a:srgbClr val="000000"/>
              </a:solidFill>
              <a:latin typeface="Arial"/>
            </a:endParaRPr>
          </a:p>
        </p:txBody>
      </p:sp>
      <p:sp>
        <p:nvSpPr>
          <p:cNvPr id="54" name="PlaceHolder 2"/>
          <p:cNvSpPr>
            <a:spLocks noGrp="1"/>
          </p:cNvSpPr>
          <p:nvPr>
            <p:ph/>
          </p:nvPr>
        </p:nvSpPr>
        <p:spPr>
          <a:xfrm>
            <a:off x="0" y="0"/>
            <a:ext cx="4038480" cy="452592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d in South America Andes mts.</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d no written language but had spoken language and used knots for messages</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ital was Cuzco</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in many gods </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a’s had a civil war. A battle with 2 groups fighting in the same country</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as did not value the gold and silver the same way the Spanish did</a:t>
            </a:r>
            <a:endParaRPr b="0" lang="en-US" sz="2400" spc="-1" strike="noStrike">
              <a:solidFill>
                <a:srgbClr val="000000"/>
              </a:solidFill>
              <a:latin typeface="Arial"/>
            </a:endParaRPr>
          </a:p>
        </p:txBody>
      </p:sp>
      <p:pic>
        <p:nvPicPr>
          <p:cNvPr id="55" name="" descr=""/>
          <p:cNvPicPr/>
          <p:nvPr/>
        </p:nvPicPr>
        <p:blipFill>
          <a:blip r:embed="rId2"/>
          <a:stretch/>
        </p:blipFill>
        <p:spPr>
          <a:xfrm>
            <a:off x="4648320" y="1676520"/>
            <a:ext cx="4286160" cy="3825720"/>
          </a:xfrm>
          <a:prstGeom prst="rect">
            <a:avLst/>
          </a:prstGeom>
          <a:ln w="0">
            <a:noFill/>
          </a:ln>
        </p:spPr>
      </p:pic>
      <p:sp>
        <p:nvSpPr>
          <p:cNvPr id="56" name=""/>
          <p:cNvSpPr/>
          <p:nvPr/>
        </p:nvSpPr>
        <p:spPr>
          <a:xfrm>
            <a:off x="6098760" y="5562000"/>
            <a:ext cx="118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took 500 people and 16 horses to kill the Aztecs.  Other Natives helped the Spanish in their conquest the Aztecs captured the Indians and used them as slaves or human sacrifice. The Aztecs were polytheistic. He is a Conquistador one who conquers. </a:t>
            </a:r>
            <a:endParaRPr b="0" lang="en-US" sz="2400" spc="-1" strike="noStrike">
              <a:solidFill>
                <a:srgbClr val="000000"/>
              </a:solidFill>
              <a:latin typeface="Arial"/>
            </a:endParaRPr>
          </a:p>
        </p:txBody>
      </p:sp>
      <p:pic>
        <p:nvPicPr>
          <p:cNvPr id="59" name="" descr=""/>
          <p:cNvPicPr/>
          <p:nvPr/>
        </p:nvPicPr>
        <p:blipFill>
          <a:blip r:embed="rId2"/>
          <a:stretch/>
        </p:blipFill>
        <p:spPr>
          <a:xfrm>
            <a:off x="5181480" y="1600200"/>
            <a:ext cx="3657600" cy="4657680"/>
          </a:xfrm>
          <a:prstGeom prst="rect">
            <a:avLst/>
          </a:prstGeom>
          <a:ln w="0">
            <a:noFill/>
          </a:ln>
        </p:spPr>
      </p:pic>
      <p:sp>
        <p:nvSpPr>
          <p:cNvPr id="60" name=""/>
          <p:cNvSpPr/>
          <p:nvPr/>
        </p:nvSpPr>
        <p:spPr>
          <a:xfrm>
            <a:off x="6402240" y="632376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2" name="PlaceHolder 2"/>
          <p:cNvSpPr>
            <a:spLocks noGrp="1"/>
          </p:cNvSpPr>
          <p:nvPr>
            <p:ph/>
          </p:nvPr>
        </p:nvSpPr>
        <p:spPr>
          <a:xfrm>
            <a:off x="533520" y="15238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zarro was a Spanish explorer. Pizarro wanted to conquer the Incas. Pizarro demanded a room filled with gold and silver and then Atahualpa would be given back.</a:t>
            </a:r>
            <a:endParaRPr b="0" lang="en-US" sz="2800" spc="-1" strike="noStrike">
              <a:solidFill>
                <a:srgbClr val="000000"/>
              </a:solidFill>
              <a:latin typeface="Arial"/>
            </a:endParaRPr>
          </a:p>
        </p:txBody>
      </p:sp>
      <p:pic>
        <p:nvPicPr>
          <p:cNvPr id="63" name="" descr=""/>
          <p:cNvPicPr/>
          <p:nvPr/>
        </p:nvPicPr>
        <p:blipFill>
          <a:blip r:embed="rId2"/>
          <a:stretch/>
        </p:blipFill>
        <p:spPr>
          <a:xfrm>
            <a:off x="5410080" y="1447920"/>
            <a:ext cx="3486240" cy="3962160"/>
          </a:xfrm>
          <a:prstGeom prst="rect">
            <a:avLst/>
          </a:prstGeom>
          <a:ln w="0">
            <a:noFill/>
          </a:ln>
        </p:spPr>
      </p:pic>
      <p:sp>
        <p:nvSpPr>
          <p:cNvPr id="64" name=""/>
          <p:cNvSpPr/>
          <p:nvPr/>
        </p:nvSpPr>
        <p:spPr>
          <a:xfrm>
            <a:off x="6478560" y="556200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51920" y="2332080"/>
            <a:ext cx="80773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ey changed Central and South America by fighting and when they killed everyone they took over. Today most people in South America are Christian. A lot of the civilizations have disappeared.                                                            </a:t>
            </a:r>
            <a:endParaRPr b="0" lang="en-US" sz="3200" spc="-1" strike="noStrike">
              <a:solidFill>
                <a:srgbClr val="000000"/>
              </a:solidFill>
              <a:latin typeface="Arial"/>
            </a:endParaRPr>
          </a:p>
        </p:txBody>
      </p:sp>
      <p:sp>
        <p:nvSpPr>
          <p:cNvPr id="66" name=""/>
          <p:cNvSpPr/>
          <p:nvPr/>
        </p:nvSpPr>
        <p:spPr>
          <a:xfrm>
            <a:off x="2009880" y="0"/>
            <a:ext cx="713412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w did the Spanish explorers and conquistadors change Central and South America forever? (Where do we see the lasting effect of these conquistadors even in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31:02Z</dcterms:created>
  <dc:creator>jklib</dc:creator>
  <dc:description/>
  <dc:language>en-US</dc:language>
  <cp:lastModifiedBy>jklib</cp:lastModifiedBy>
  <dcterms:modified xsi:type="dcterms:W3CDTF">2011-11-30T16:19:43Z</dcterms:modified>
  <cp:revision>6</cp:revision>
  <dc:subject/>
  <dc:title>Spanish Conquistadors and the natives</dc:title>
</cp:coreProperties>
</file>